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3C5-442A-4BE2-9F6E-55FFCA892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4F66-0779-4224-8B83-E95E1C20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urina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B074-7389-4082-9685-4FDE5F6BC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89BA-6B6E-447F-917A-F46A59054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49F-49D5-47BA-ADEE-A6487EBE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7580-4FB8-4290-89BC-797DA4F3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sciencephoto.com/image/395171/530wm/C0097511-Nephron_structure%2C_artwork-SP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CFA-3A3F-4452-8983-C0DC9242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3A0-8D88-42F8-A83E-615584FF2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B86-BF94-47DB-B617-6B6E1C361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ommons.wikimedia.org/wiki/File:Kidney_structure_neutra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9C7-9CDE-43B2-ABD7-7D9C5C2B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727D-317E-4441-B5AB-1EA9B95A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 :http://kcfac.kilgore.cc.tx.us/mobleypageap1/quizzes_and_downloads.h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0FD8-A380-440E-AFE4-B7C15A6D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Image from: http://www.medical-illustrations.ca/1010-kidney-nephron-diagram/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ferent Arrives…Efferent Exi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ACC-01F5-425E-AEFA-62E62E0D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75D5-29E5-4A8F-9AA1-48DFA8F6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previous slide from:  http://www.mountainside-medical.com/products/Urine-Specimen-Cup ,-Steril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4370-1996-4A96-BE99-CAE1D83F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, NaCl, H+ ions, amino acid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E662-E963-4ECA-BBBC-EF8084A3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oduced 120 mL of urine a minut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our bladd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stretch receptors signal to your brain when there is 200mL of urine;  can hold up to 600-8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tic gradient created by glucose, amino acids moves water back to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humanphysiology2011.wikispaces.com/12.+Ur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C26-C9F6-4645-A8F4-1EEF7D92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471/flashcards/4757471/jpeg/bf9216ee-b2fb-4054-844f-4c88b0e49ad9-147E96763CA798BDAAA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657-B246-4600-9F2D-A26B63212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droualb.faculty.mjc.edu/Course%20Materials/Elementary%20Anatomy%20and%20Physiology%2050/Lecture%20outlines/15_05Figure-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B43-9522-4E46-9ED2-FB6F9ADFB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5251-4B16-44EF-9060-3CF6E246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23AC-3B1B-4BBD-BEF5-76C95FA0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3AB2-4C6D-4A4C-8D7C-A22640BB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greatneck.k12.ny.us/GNPS/SHS/dept/science/krauz/bio_h/images/07_14ContractileVacuole_L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6251-BAE8-4C49-9776-CBFD7B9F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E54E-A2FF-4E8B-9912-98780911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A68-36C3-474B-AD82-39A044A1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11B-B2A3-499C-B3D9-65F532C4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C84-15A8-4561-B3AE-9A0D600E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9B2-D04C-4484-A0FD-E7A83ACD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1237-8B1F-42E3-9BBE-50475B656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E67-81CA-45AE-AC97-19135055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8978-C0E2-468F-A844-E67382C8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classconnection.s3.amazonaws.com/754/flashcards/566754/png/42.12132059291329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5B3-D560-4836-BA08-EEC50130E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pleasanton.k12.ca.us/avhsweb/thiel/apbio/review/images/malpi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shitmy6yearoldsays.files.wordpress.com/2012/10/bird-poop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561-8186-47B4-8EC1-04F9B1F0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249B-A6FC-42CF-998D-8CE2BC4B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beijo.com/39245025_human-excretory-system-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3141-B1A8-4577-85F5-ACBDC60F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7585-247B-48AE-A157-C30C1CE2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CAE-D56C-4DBE-BDA4-7CAE4BD4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F61-9F9B-48F7-B924-D5A8265C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192-0306-4286-8FFE-224A14B0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5D4-6F4A-4686-948E-DAF1C74A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245-8370-4126-9C65-4920282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604-81E5-4E59-B17C-B2680515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68F-8019-4484-B96D-305D952D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BCE-7C1A-4342-829C-DC2CF4E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6F6-9B6C-465C-B0A4-8BABB9A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979-5CA0-43F7-943D-7C2503C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B9D-68D2-465D-8FF2-9E90D04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95D-6EF3-45C1-9376-871DCD5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DE4-9A00-4411-A366-9E477563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kidney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TXRcbjuYGU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25836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SCF1603-746713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DSCF1607-706730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 million nephrons in each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Content Placeholder 2" descr="C0097511-Nephron_structure%2C_artwork-SPL.jpg"/>
          <p:cNvPicPr/>
          <p:nvPr/>
        </p:nvPicPr>
        <p:blipFill>
          <a:blip r:embed="rId1"/>
          <a:srcRect l="-31772" t="0" r="-31772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Nephron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Struct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idney_structure_neutral"/>
          <p:cNvPicPr/>
          <p:nvPr/>
        </p:nvPicPr>
        <p:blipFill>
          <a:blip r:embed="rId1"/>
          <a:stretch/>
        </p:blipFill>
        <p:spPr>
          <a:xfrm>
            <a:off x="685800" y="934920"/>
            <a:ext cx="77724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300px-Urinary_system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nephron1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1010_kidney_nephron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es wastes &amp; removes them from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fluids &amp; water with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urine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urine-specimen-cup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blood pressure in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, ions, smaller dissolved molecules (glucose, amino acids, urea) move through the walls of the 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kidneys filter your entire blood plasm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on pum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transport prote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bsorb pretty much all amino acids, glucose &amp; other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water is by osmosis (passive) and aid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quapo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villi increase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, gluose, amino acids reabsorbed by  passive &amp; ac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eabsorbed by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5" descr="salt_and_water_reabsorption.jpg"/>
          <p:cNvPicPr/>
          <p:nvPr/>
        </p:nvPicPr>
        <p:blipFill>
          <a:blip r:embed="rId1"/>
          <a:srcRect l="0" t="-15249" r="0" b="-15249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reabsorbed 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re reabsorb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c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rtion (“make medulla salty” as Sal Khan s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6" descr="bf9216ee-b2fb-4054-844f-4c88b0e49ad9-147E96763CA798BDAAA.jpeg"/>
          <p:cNvPicPr/>
          <p:nvPr/>
        </p:nvPicPr>
        <p:blipFill>
          <a:blip r:embed="rId1"/>
          <a:srcRect l="0" t="-8504" r="0" b="-8504"/>
          <a:stretch/>
        </p:blipFill>
        <p:spPr>
          <a:xfrm>
            <a:off x="4356000" y="1628640"/>
            <a:ext cx="4392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8" descr="15_05Figure-L.jpg"/>
          <p:cNvPicPr/>
          <p:nvPr/>
        </p:nvPicPr>
        <p:blipFill>
          <a:blip r:embed="rId1"/>
          <a:srcRect l="-9117" t="0" r="-9117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l Tubule &amp; Collecting 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ions &amp;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water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urea reabsorbed (passive) to allow more reabsorption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xi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l convoluted tub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pH maintained through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 and reabsorption of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xified poisons, water-soluble drugs,  nitrogen-containing wastes are all sec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ice detailed animation that goes through the structure of the kidney &amp; the formation of ur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kidne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2" descr="07_14ContractileVacuole_LP.jpg"/>
          <p:cNvPicPr/>
          <p:nvPr/>
        </p:nvPicPr>
        <p:blipFill>
          <a:blip r:embed="rId2"/>
          <a:srcRect l="3701" t="0" r="370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Urinalysis_2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Kidney Stones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surgical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kidney_stone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_A5_72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dialysis_catheter_jpg"/>
          <p:cNvPicPr/>
          <p:nvPr/>
        </p:nvPicPr>
        <p:blipFill>
          <a:blip r:embed="rId1"/>
          <a:stretch/>
        </p:blipFill>
        <p:spPr>
          <a:xfrm>
            <a:off x="3013200" y="609480"/>
            <a:ext cx="311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 in Earth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ymph is taken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nephri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and waste are reabsorbed &amp; secreted into blad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water &amp; wastes exit through p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6" descr="42.121320592913292.png"/>
          <p:cNvPicPr/>
          <p:nvPr/>
        </p:nvPicPr>
        <p:blipFill>
          <a:blip r:embed="rId1"/>
          <a:srcRect l="0" t="-11958" r="0" b="-11958"/>
          <a:stretch/>
        </p:blipFill>
        <p:spPr>
          <a:xfrm>
            <a:off x="4284720" y="1628640"/>
            <a:ext cx="4390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 in Grasshop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1989000"/>
            <a:ext cx="4030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hoppers &amp; other insects secrete ions &amp; uric acid from hemolymph in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pighian tub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stines reabsorb most ions &amp; uric acid is ex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6" descr="malpig.jpg"/>
          <p:cNvPicPr/>
          <p:nvPr/>
        </p:nvPicPr>
        <p:blipFill>
          <a:blip r:embed="rId1"/>
          <a:srcRect l="0" t="-12868" r="0" b="-12868"/>
          <a:stretch/>
        </p:blipFill>
        <p:spPr>
          <a:xfrm>
            <a:off x="4284720" y="1628640"/>
            <a:ext cx="446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estrial Reptiles &amp; 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c acid is excreted through the cloaca (end of digestive tract), along with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that drink salt water excrete excess salt through salt glands in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bird-poop.png"/>
          <p:cNvPicPr/>
          <p:nvPr/>
        </p:nvPicPr>
        <p:blipFill>
          <a:blip r:embed="rId1"/>
          <a:srcRect l="14691" t="0" r="14691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n5551267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cre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kidney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remove wastes, balance blood pH, and maintain water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ilter the blood 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ad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7-04-26T12:13:02Z</dcterms:modified>
  <cp:revision>308</cp:revision>
  <dc:subject/>
  <dc:title>Maintaining An Internal Balance</dc:title>
</cp:coreProperties>
</file>